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8B6EB-7EF7-4504-BD12-7082E213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D9C8-BD4E-4742-A585-81A281C4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B1329-01A1-4716-B450-07402032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93A78-CA25-4BCD-8F13-AD139596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7ECB7-6DB6-4EFA-9B11-8FB6BC6F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299A4-F8F5-493B-B253-18759AD1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A73A5-DD01-4A0F-9389-9667E02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6BDB9-B408-4238-A31D-E90A627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D029D-6D52-4C2D-B72B-FF0F84A5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A36A-D93E-44C3-8B08-E6B9991E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F201-E534-40D3-9202-2C025A02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636C5-1168-4E55-93D2-A8345289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B310-ED5E-4D67-9F48-F90E21DEF89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1024-43B2-44EB-8E10-9B8F68EE14B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89C6-4EC6-4824-929A-40E97B1F04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ктический опыт построения ИС масштаба предприятия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 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D8BB8-F696-4AFD-83E4-37D9A308CA03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ыбор информационной систем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ля чего мы выбирае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лько нужно выбира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оимость проек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ое в выбор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8041-C1B9-4FBF-8F3D-FD3A480147C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Акценты производителей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ухгалтерско-финансовые систе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5F7B1-89E0-44E3-AFA4-9E2485D14D0A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 - факторы успех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интересованность первых ли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держка информационных отдел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несенные тр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19BCA-FDFF-4129-85C9-737406D5F93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чего начина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мейте решимость вовремя остановить специалис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ботирование: крайности позиций сотрудни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ублирование информ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3127C-D67D-45A8-B793-E0B6F0A35AA1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Главный итог внедрения ИС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ля управленческого уче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оступной напрямую руководителям для принятия ре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гулярный менеджмент - регулярный контроль ключевых параметр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DB5CA-1153-4943-A844-4D48489DEF3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опрос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сист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agarkov@kamkabel.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лефон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422) 195-1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0C5A6-6DA7-4E76-8A89-B7B4C0B1A3A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7:17:27Z</dcterms:created>
  <dc:creator>Агарков А.И.</dc:creator>
  <dc:description/>
  <dc:language>en-US</dc:language>
  <cp:lastModifiedBy>Агарков А.И.</cp:lastModifiedBy>
  <dcterms:modified xsi:type="dcterms:W3CDTF">2002-12-02T12:43:38Z</dcterms:modified>
  <cp:revision>4</cp:revision>
  <dc:subject/>
  <dc:title>Место заголовка</dc:title>
</cp:coreProperties>
</file>